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9C99-56E2-4025-83A5-E7AA6582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117B-4920-416E-8A4D-C335A9ED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CA784-35D4-4FC9-A5A3-253806113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9582D-EC5A-46DB-A522-6325463D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BF84-48E8-40F5-BA1A-52DFF3255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6335-0E9E-490C-9845-6BBF09DE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C7D2-ED5F-4022-8967-E68B51773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D5F8E-34BC-4324-8A12-3DFF5258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AF8C1-9E6C-44CC-BFAE-3AC44533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B4916-9A0D-41AC-9547-4EFB23EB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A952-2CCA-4C50-9771-811461A2F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C9A26-D6F1-4CDB-AB8A-1FFBE24C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92F7-B0B4-4408-88FB-D4786BC7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78E3-BE6D-409F-AAF5-25128B5B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5444-4C20-41E8-A580-C26384E5C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4EEB3-608F-4F38-8513-B474DE4DD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0B76-4D56-4984-AAD9-36D665AA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33F91-9904-4051-A380-BAD41B3F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180B2-0930-452B-B3DD-824DC310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F3318-C48A-4AEF-BE04-4D7E4E4A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C226E-CFEC-4806-9982-D04E312B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5AAF6-6373-48BD-972B-C4411252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74C733-C5D1-4AF3-ADBA-B3152E20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E190E-547F-47CD-9A59-33269A2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7189-ACE4-4CAE-AAB9-C49C79C8C7A8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8225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7c07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e2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0000"/>
                </a:gs>
                <a:gs pos="100000">
                  <a:srgbClr val="7c070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82250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8225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7c070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e2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2410-D67D-45FE-93A5-DEF0FF3169A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22504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e2a06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22504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fghanista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15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and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du Ku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yber P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19720" y="714240"/>
            <a:ext cx="3733560" cy="280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3173400"/>
            <a:ext cx="510516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0% Farm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legal Dr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e2a06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at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467240" cy="3352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4876920" cy="32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bu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htu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ji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124080" y="1752480"/>
            <a:ext cx="476280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viet/Afghan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liban R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r on Terr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2381040" cy="1629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400800" y="4800600"/>
            <a:ext cx="2610000" cy="19242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619600" y="2362320"/>
            <a:ext cx="3524400" cy="2325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3962520" y="289548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533520" y="3733920"/>
            <a:ext cx="382896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36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uestions for Iran Arti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o does Iran blame for these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e reporters and journalists allowed to report on the events taking place in Ira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eople were executed in Iran in January?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stions for Article #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which country did these protests star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countries may be “immune” to these protests?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article says that a”barrier of _______ has been broken by these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is the King of Morrocco not being challenged by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are the protests in Iran different from those in Egyp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message is being sent to terrorist groups like Al Qaeda from these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22504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 generational gap and how is this affecting these protest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4:42:07Z</dcterms:created>
  <dc:creator> John Doe</dc:creator>
  <dc:description/>
  <dc:language>en-US</dc:language>
  <cp:lastModifiedBy>Technology</cp:lastModifiedBy>
  <dcterms:modified xsi:type="dcterms:W3CDTF">2011-02-17T19:16:09Z</dcterms:modified>
  <cp:revision>4</cp:revision>
  <dc:subject/>
  <dc:title>Afghanistan</dc:title>
</cp:coreProperties>
</file>